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E269-57A7-4EF5-9D40-16FBD9456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F4A7-07B1-4200-B212-135F64A250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6B76-6921-4E0D-ACFB-EBB918130D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89A7-FCDA-42D2-8BCC-4E8195C9B5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8051-1F0A-4109-8308-21DA8EA4A3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4D99-741B-472E-A353-D5A017AE66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44C1-56B4-428B-A856-EA7D0BD83F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1189-E593-433B-98CE-02D7E46455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F5FC-5BBB-4125-9B9B-E9C543D781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8E78-E6FB-4FBE-A682-0BEAD0E76E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6BF5-2C36-4A2F-BA70-4B82EE83A0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7BDF-A20D-43E9-BA15-1E053AD138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F10A-F780-4037-BD31-37A591BA51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154C-C232-4781-BEBB-AED047C547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5458-F867-4407-8885-2C8784130E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4FB7-4AC7-47C2-A87A-22C0F1D894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CBE6-37A6-4E54-B08A-04C77C75DC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AAEF-DC5D-41AB-8A0F-8C3CF86AD1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BB9-75A7-4411-8A68-5B148C5D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606-04E4-4057-A13F-7134988E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274-EC98-4783-9BAA-CF4D05D7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050-C23F-48D4-B182-93528B7F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6B6-57BD-467D-860E-3A8C05B2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98C-B8E5-4EFB-8E87-D0BC7A41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1D9-6129-4A0F-9670-90AFD610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247-9E09-47FE-8C7D-66859AFF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DAA-DBC1-4AA3-A026-244CFE7B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9C7-F3AE-4152-910B-176DD36E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8AC-D56B-41B0-B8FF-200E8D03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D0A-CAF2-4E44-9D84-627B45AE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7CE6-76D2-4CE0-BE83-21843CBE52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 fontScale="94000"/>
          </a:bodyPr>
          <a:p>
            <a:pPr lvl="1" marL="644400" indent="-2145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 Unicode MS"/>
                <a:ea typeface="B Tabassom"/>
              </a:rPr>
              <a:t>      </a:t>
            </a:r>
            <a:r>
              <a:rPr b="0" lang="en-US" sz="5400" spc="-1" strike="noStrike">
                <a:solidFill>
                  <a:srgbClr val="ffffff"/>
                </a:solidFill>
                <a:latin typeface="Arial Unicode MS"/>
                <a:ea typeface="B Tabassom"/>
              </a:rPr>
              <a:t>             </a:t>
            </a:r>
            <a:r>
              <a:rPr b="0" lang="fa-IR" sz="5400" spc="-1" strike="noStrike">
                <a:solidFill>
                  <a:srgbClr val="ffffff"/>
                </a:solidFill>
                <a:latin typeface="Arial Unicode MS"/>
                <a:cs typeface="B Tabassom"/>
              </a:rPr>
              <a:t>بنام خدا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lvl="1" marL="644400" indent="-2145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lvl="1" marL="644400" indent="-21456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Arial Unicode MS"/>
                <a:ea typeface="B Tabassom"/>
              </a:rPr>
              <a:t>        فرهنگ سازمانی</a:t>
            </a:r>
            <a:r>
              <a:rPr b="0" lang="en-US" sz="5400" spc="-1" strike="noStrike">
                <a:solidFill>
                  <a:srgbClr val="ffffff"/>
                </a:solidFill>
                <a:latin typeface="Arial Unicode MS"/>
                <a:ea typeface="B Tabassom"/>
              </a:rPr>
              <a:t>        </a:t>
            </a:r>
            <a:r>
              <a:rPr b="0" lang="fa-IR" sz="8800" spc="-1" strike="noStrike">
                <a:solidFill>
                  <a:srgbClr val="ffffff"/>
                </a:solidFill>
                <a:latin typeface="Arial Unicode MS"/>
                <a:cs typeface="B Tabassom"/>
              </a:rPr>
              <a:t>مدرس کارگاه: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  <a:p>
            <a:pPr lvl="1" marL="644400" indent="-21456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 Unicode MS"/>
                <a:cs typeface="B Tabassom"/>
              </a:rPr>
              <a:t>دکتر ساد</a:t>
            </a:r>
            <a:r>
              <a:rPr b="0" lang="fa-IR" sz="8800" spc="-1" strike="noStrike">
                <a:solidFill>
                  <a:srgbClr val="ffffff"/>
                </a:solidFill>
                <a:latin typeface="Arial Unicode MS"/>
                <a:cs typeface="B Tabassom"/>
              </a:rPr>
              <a:t>اتی</a:t>
            </a:r>
            <a:r>
              <a:rPr b="0" lang="en-US" sz="5400" spc="-1" strike="noStrike">
                <a:solidFill>
                  <a:srgbClr val="ffffff"/>
                </a:solidFill>
                <a:latin typeface="Arial Unicode MS"/>
                <a:ea typeface="B Tabassom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lvl="1" marL="644400" indent="-2145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lvl="1" marL="644400" indent="-2145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ffffff"/>
                </a:solidFill>
                <a:latin typeface="Arial Unicode MS"/>
                <a:ea typeface="B Tabassom"/>
              </a:rPr>
              <a:t>	</a:t>
            </a:r>
            <a:r>
              <a:rPr b="0" lang="fa-IR" sz="4800" spc="-1" strike="noStrike">
                <a:solidFill>
                  <a:srgbClr val="ffffff"/>
                </a:solidFill>
                <a:latin typeface="Arial Unicode MS"/>
                <a:ea typeface="B Tabassom"/>
              </a:rPr>
              <a:t>	</a:t>
            </a:r>
            <a:r>
              <a:rPr b="0" lang="fa-IR" sz="4800" spc="-1" strike="noStrike">
                <a:solidFill>
                  <a:srgbClr val="ffffff"/>
                </a:solidFill>
                <a:latin typeface="Arial Unicode MS"/>
                <a:ea typeface="B Tabassom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4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6172200" cy="54864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5"/>
          <p:cNvSpPr/>
          <p:nvPr/>
        </p:nvSpPr>
        <p:spPr>
          <a:xfrm>
            <a:off x="3657600" y="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  <a:cs typeface="B Yagut"/>
              </a:rPr>
              <a:t>گرايش ها يا طرز تلقي ه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6"/>
          <p:cNvSpPr/>
          <p:nvPr/>
        </p:nvSpPr>
        <p:spPr>
          <a:xfrm>
            <a:off x="304920" y="228600"/>
            <a:ext cx="1371600" cy="914400"/>
          </a:xfrm>
          <a:prstGeom prst="wedgeRoundRectCallout">
            <a:avLst>
              <a:gd name="adj1" fmla="val 186921"/>
              <a:gd name="adj2" fmla="val 112328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 (Arabic)"/>
                <a:cs typeface="Times New Roman (Arabic)"/>
              </a:rPr>
              <a:t>برگها = جلوه هاي بيروني فرهنگ</a:t>
            </a:r>
            <a:r>
              <a:rPr b="1" lang="en-US" sz="1400" spc="-1" strike="noStrike">
                <a:solidFill>
                  <a:srgbClr val="000000"/>
                </a:solidFill>
                <a:latin typeface="Times New Roman (Arabic)"/>
                <a:ea typeface="Times New Roman (Arabic)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7"/>
          <p:cNvSpPr/>
          <p:nvPr/>
        </p:nvSpPr>
        <p:spPr>
          <a:xfrm>
            <a:off x="304920" y="2743200"/>
            <a:ext cx="1371600" cy="1028880"/>
          </a:xfrm>
          <a:prstGeom prst="wedgeRoundRectCallout">
            <a:avLst>
              <a:gd name="adj1" fmla="val 223958"/>
              <a:gd name="adj2" fmla="val 111111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 (Arabic)"/>
                <a:cs typeface="Times New Roman (Arabic)"/>
              </a:rPr>
              <a:t>ساقه =  ساختار فرهنگ يا ساختار اجتماعي</a:t>
            </a:r>
            <a:r>
              <a:rPr b="1" lang="en-US" sz="1400" spc="-1" strike="noStrike">
                <a:solidFill>
                  <a:srgbClr val="000000"/>
                </a:solidFill>
                <a:latin typeface="Times New Roman (Arabic)"/>
                <a:ea typeface="Times New Roman (Arabic)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7467480" y="1752480"/>
            <a:ext cx="1067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9933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  <a:cs typeface="B Yagut"/>
              </a:rPr>
              <a:t>رفتاره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1523880" y="18288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  <a:cs typeface="B Yagut"/>
              </a:rPr>
              <a:t>صفات</a:t>
            </a:r>
            <a:r>
              <a:rPr b="0" lang="en-US" sz="2000" spc="-1" strike="noStrike">
                <a:solidFill>
                  <a:srgbClr val="0563c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9"/>
          <p:cNvSpPr/>
          <p:nvPr/>
        </p:nvSpPr>
        <p:spPr>
          <a:xfrm>
            <a:off x="4952880" y="4267080"/>
            <a:ext cx="457200" cy="83844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imes New Roman (Arabic)"/>
                <a:cs typeface="Times New Roman (Arabic)"/>
              </a:rPr>
              <a:t>چارچوب انگاره ها و تصورات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0"/>
          <p:cNvSpPr/>
          <p:nvPr/>
        </p:nvSpPr>
        <p:spPr>
          <a:xfrm>
            <a:off x="3886200" y="36576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Times New Roman"/>
                <a:cs typeface="B Yagut"/>
              </a:rPr>
              <a:t>مفاهيم</a:t>
            </a:r>
            <a:r>
              <a:rPr b="0" lang="en-US" sz="2000" spc="-1" strike="noStrike">
                <a:solidFill>
                  <a:srgbClr val="0563c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41"/>
          <p:cNvSpPr/>
          <p:nvPr/>
        </p:nvSpPr>
        <p:spPr>
          <a:xfrm>
            <a:off x="5638680" y="32767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Times New Roman"/>
                <a:cs typeface="B Yagut"/>
              </a:rPr>
              <a:t>نهادها</a:t>
            </a:r>
            <a:r>
              <a:rPr b="0" lang="en-US" sz="2000" spc="-1" strike="noStrike">
                <a:solidFill>
                  <a:srgbClr val="0563c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42"/>
          <p:cNvSpPr/>
          <p:nvPr/>
        </p:nvSpPr>
        <p:spPr>
          <a:xfrm>
            <a:off x="5638680" y="39625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Times New Roman"/>
                <a:cs typeface="B Yagut"/>
              </a:rPr>
              <a:t>خط مشي ها</a:t>
            </a:r>
            <a:r>
              <a:rPr b="0" lang="en-US" sz="2000" spc="-1" strike="noStrike">
                <a:solidFill>
                  <a:srgbClr val="0563c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43"/>
          <p:cNvSpPr/>
          <p:nvPr/>
        </p:nvSpPr>
        <p:spPr>
          <a:xfrm>
            <a:off x="3733920" y="449568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Times New Roman"/>
                <a:cs typeface="B Yagut"/>
              </a:rPr>
              <a:t>فلسفه</a:t>
            </a:r>
            <a:r>
              <a:rPr b="0" lang="en-US" sz="2000" spc="-1" strike="noStrike">
                <a:solidFill>
                  <a:srgbClr val="0563c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45"/>
          <p:cNvSpPr/>
          <p:nvPr/>
        </p:nvSpPr>
        <p:spPr>
          <a:xfrm flipV="1" rot="5283600">
            <a:off x="5243400" y="5728680"/>
            <a:ext cx="635040" cy="910800"/>
          </a:xfrm>
          <a:prstGeom prst="lightningBol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46"/>
          <p:cNvSpPr/>
          <p:nvPr/>
        </p:nvSpPr>
        <p:spPr>
          <a:xfrm rot="5283000">
            <a:off x="4529520" y="5528160"/>
            <a:ext cx="576360" cy="1253880"/>
          </a:xfrm>
          <a:prstGeom prst="lightningBol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47"/>
          <p:cNvSpPr/>
          <p:nvPr/>
        </p:nvSpPr>
        <p:spPr>
          <a:xfrm flipV="1" rot="5283600">
            <a:off x="6404040" y="5635080"/>
            <a:ext cx="565200" cy="1029240"/>
          </a:xfrm>
          <a:prstGeom prst="lightningBol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48"/>
          <p:cNvSpPr/>
          <p:nvPr/>
        </p:nvSpPr>
        <p:spPr>
          <a:xfrm rot="5283000">
            <a:off x="3446640" y="5544360"/>
            <a:ext cx="455760" cy="1253880"/>
          </a:xfrm>
          <a:prstGeom prst="lightningBol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49"/>
          <p:cNvSpPr/>
          <p:nvPr/>
        </p:nvSpPr>
        <p:spPr>
          <a:xfrm>
            <a:off x="2286000" y="649116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       </a:t>
            </a:r>
            <a:r>
              <a:rPr b="1" lang="ar-SA" sz="2000" spc="-1" strike="noStrike">
                <a:solidFill>
                  <a:srgbClr val="663300"/>
                </a:solidFill>
                <a:latin typeface="Times New Roman"/>
                <a:cs typeface="B Yagut"/>
              </a:rPr>
              <a:t>مذهب               ادبيات                     اساطير         هنر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50"/>
          <p:cNvSpPr/>
          <p:nvPr/>
        </p:nvSpPr>
        <p:spPr>
          <a:xfrm>
            <a:off x="228600" y="5105520"/>
            <a:ext cx="1486080" cy="914400"/>
          </a:xfrm>
          <a:prstGeom prst="wedgeRoundRectCallout">
            <a:avLst>
              <a:gd name="adj1" fmla="val 148185"/>
              <a:gd name="adj2" fmla="val 68055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 (Arabic)"/>
                <a:cs typeface="Times New Roman (Arabic)"/>
              </a:rPr>
              <a:t>ريشه ها = منابع فرهنگ</a:t>
            </a:r>
            <a:r>
              <a:rPr b="1" lang="en-US" sz="1400" spc="-1" strike="noStrike">
                <a:solidFill>
                  <a:srgbClr val="000000"/>
                </a:solidFill>
                <a:latin typeface="Times New Roman (Arabic)"/>
                <a:ea typeface="Times New Roman (Arabic)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546a"/>
            </a:gs>
            <a:gs pos="100000">
              <a:srgbClr val="1f273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Oval 11"/>
          <p:cNvSpPr/>
          <p:nvPr/>
        </p:nvSpPr>
        <p:spPr>
          <a:xfrm>
            <a:off x="2057400" y="990720"/>
            <a:ext cx="4587840" cy="4039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2133720" y="1219320"/>
            <a:ext cx="4457520" cy="37717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2514600" y="1523880"/>
            <a:ext cx="3695760" cy="3048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2666880" y="1676520"/>
            <a:ext cx="3394080" cy="289548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048120" y="2057400"/>
            <a:ext cx="2743200" cy="2101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3124080" y="2209680"/>
            <a:ext cx="2600280" cy="194328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3505320" y="2590920"/>
            <a:ext cx="1828800" cy="1104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3581280" y="2743200"/>
            <a:ext cx="1638360" cy="9586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685800" y="2209680"/>
            <a:ext cx="75438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Yagut"/>
              </a:rPr>
              <a:t>جهان بيني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Yagut"/>
              </a:rPr>
              <a:t>باورها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Yagut"/>
              </a:rPr>
              <a:t>ارزشها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Yagut"/>
              </a:rPr>
              <a:t>رفتارها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Yagut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0" y="1349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0" y="1349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0" y="1349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0" y="1349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0" y="5181480"/>
            <a:ext cx="91440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B Titr"/>
              </a:rPr>
              <a:t>  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B Titr"/>
              </a:rPr>
              <a:t>لايه هاي فرهن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00"/>
            </a:gs>
            <a:gs pos="100000">
              <a:srgbClr val="cc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66680" y="380880"/>
            <a:ext cx="7315200" cy="65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227160" indent="-227160"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54f72"/>
                </a:solidFill>
                <a:latin typeface="Times New Roman"/>
                <a:cs typeface="B Titr"/>
              </a:rPr>
              <a:t>اجــزاء فضـاي سـازمـان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B Lotu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 algn="just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B Yagut"/>
              </a:rPr>
              <a:t> 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B Yagut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B Yagut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Arial Alternative"/>
                <a:ea typeface="Arial Alternative"/>
              </a:rPr>
              <a:t>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 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B Yagut"/>
              </a:rPr>
              <a:t>ارزشهاي مديران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 algn="just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B Yagu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.     سبك رهبري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 algn="just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B Yagut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.     شرايط اقتصادي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 algn="just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B Yagu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.     ساختار سازمان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 algn="just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B Yagut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.     ويژگيهاي اعضاء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 algn="just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B Yagut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.     همبستگي و اتحاد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 algn="just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B Yagu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.     اندازه سازمان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 algn="just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B Yagu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.     ماهيت كار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8839080" cy="88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246240" indent="-246240" algn="ct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3300"/>
                </a:solidFill>
                <a:latin typeface="Times New Roman"/>
                <a:cs typeface="B Titr"/>
              </a:rPr>
              <a:t>ده ويژگي اثربخشي  فرهنگ سازماني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Titr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Lotus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Lotus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just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-   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cs typeface="B Yagut"/>
              </a:rPr>
              <a:t>رهبري قوي و مديريت لايق كه داراي برنامه باشد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2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-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   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cs typeface="B Yagut"/>
              </a:rPr>
              <a:t>انسان مهمترين سرمايه سازمان تلقي گرد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3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-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   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cs typeface="B Yagut"/>
              </a:rPr>
              <a:t>ارتباطات صميمي در كليه سطوح سازماني وجود داشته باشد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4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-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   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cs typeface="B Yagut"/>
              </a:rPr>
              <a:t>به طريق زير ايجاد انگيزش نمايد</a:t>
            </a:r>
            <a:r>
              <a:rPr b="1" lang="ar-SA" sz="2000" spc="-1" strike="noStrike">
                <a:solidFill>
                  <a:srgbClr val="954f72"/>
                </a:solidFill>
                <a:latin typeface="Times New Roman"/>
                <a:ea typeface="B Yagut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                                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B Yagut"/>
              </a:rPr>
              <a:t>الف) اعتمادكردن به افرا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                                ب)  انتظار بازدهي و بهره وري در سطح بال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                                ج)  احترام به افراد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                                 د)  مشاركت كاركنان در كارها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5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-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   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cs typeface="B Yagut"/>
              </a:rPr>
              <a:t>توجه به نوآوري داشته باشد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6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-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   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cs typeface="B Yagut"/>
              </a:rPr>
              <a:t>ارزشيابي دقيق از كاروعملكردافرادو تشويق مادي و معنوي كاركنان برجسته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7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-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   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cs typeface="B Yagut"/>
              </a:rPr>
              <a:t>توجه ويژه به آموزش ، توسعه منابع انساني وتحقيق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	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حدود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20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 تا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30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 درصد بودجه صرف آموزش مي شود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8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-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   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 ايجاد احساس مناسب در كاركنان به صورتهاي زير كند :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                            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B Yagut"/>
              </a:rPr>
              <a:t>الف )كاركنان از عضويت درسازمان احساس غرور كنند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                            ب ) موفقيت سازمان را موفقيت خود بدانند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                            ج ) احساس رقابت سالم وسازنده درتمام سازمان جريان داشته باشد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                             د ) احساس امنيت و اعتبارشغلي در سطح بالا وجود داشته باشد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9</a:t>
            </a:r>
            <a:r>
              <a:rPr b="1" lang="fa-IR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-</a:t>
            </a:r>
            <a:r>
              <a:rPr b="1" lang="fa-IR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   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cs typeface="B Yagut"/>
              </a:rPr>
              <a:t>پذيرش افكار و عقايد وطرحهاي خوب كاركنان و تشويق آنها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 algn="r" rtl="1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10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B Yagut"/>
              </a:rPr>
              <a:t>-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ff9900"/>
                </a:solidFill>
                <a:latin typeface="Times New Roman"/>
                <a:cs typeface="B Yagut"/>
              </a:rPr>
              <a:t>استقلال مديران سازمان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Object 10"/>
          <p:cNvGraphicFramePr/>
          <p:nvPr/>
        </p:nvGraphicFramePr>
        <p:xfrm>
          <a:off x="990720" y="-228600"/>
          <a:ext cx="70102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228600"/>
                    <a:ext cx="70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Object 11"/>
          <p:cNvGraphicFramePr/>
          <p:nvPr/>
        </p:nvGraphicFramePr>
        <p:xfrm>
          <a:off x="1143000" y="0"/>
          <a:ext cx="70102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0"/>
                    <a:ext cx="70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Object 3"/>
          <p:cNvGraphicFramePr/>
          <p:nvPr/>
        </p:nvGraphicFramePr>
        <p:xfrm>
          <a:off x="1143000" y="0"/>
          <a:ext cx="70102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0"/>
                    <a:ext cx="70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6"/>
          <p:cNvGraphicFramePr/>
          <p:nvPr/>
        </p:nvGraphicFramePr>
        <p:xfrm>
          <a:off x="1143000" y="0"/>
          <a:ext cx="70102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0"/>
                    <a:ext cx="70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2"/>
          <p:cNvGraphicFramePr/>
          <p:nvPr/>
        </p:nvGraphicFramePr>
        <p:xfrm>
          <a:off x="0" y="533520"/>
          <a:ext cx="9144000" cy="685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63c1"/>
            </a:gs>
            <a:gs pos="100000">
              <a:srgbClr val="022e5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380880" y="-152280"/>
            <a:ext cx="838224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B Yagut"/>
              </a:rPr>
              <a:t>بـراي مـوفق شـــدن ديگــر كافــي نيـست از يـك دانشگاه خوب  فـارغ التحصيل شـد و داراي بهــره هوشي يا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B Yagut"/>
              </a:rPr>
              <a:t>IQ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B Yagut"/>
              </a:rPr>
              <a:t> )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ea typeface="B Yagut"/>
              </a:rPr>
              <a:t> بالا بود ، بلكه عــلاوه بـر آنهـا بايـد بـه خـوبـي توانايـي شنـاخت كارآيي هاي خـود و ديگران را داشت ؛ </a:t>
            </a:r>
            <a:r>
              <a:rPr b="1" lang="ar-SA" sz="4400" spc="-1" strike="noStrike">
                <a:solidFill>
                  <a:srgbClr val="ff3300"/>
                </a:solidFill>
                <a:latin typeface="Times New Roman"/>
                <a:cs typeface="B Yagut"/>
              </a:rPr>
              <a:t>به عبـــارت ديگر ، بايد داراي هـوش عاطفي</a:t>
            </a:r>
            <a:r>
              <a:rPr b="1" lang="ar-SA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</a:t>
            </a:r>
            <a:r>
              <a:rPr b="1" lang="ar-SA" sz="4400" spc="-1" strike="noStrike">
                <a:solidFill>
                  <a:srgbClr val="ff3300"/>
                </a:solidFill>
                <a:latin typeface="Times New Roman"/>
                <a:ea typeface="B Yagut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B Yagut"/>
              </a:rPr>
              <a:t>(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B Yagut"/>
              </a:rPr>
              <a:t>Emotional Intelligence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B Yagut"/>
              </a:rPr>
              <a:t> </a:t>
            </a:r>
            <a:r>
              <a:rPr b="1" lang="ar-SA" sz="4400" spc="-1" strike="noStrike">
                <a:solidFill>
                  <a:srgbClr val="ff3300"/>
                </a:solidFill>
                <a:latin typeface="Times New Roman"/>
                <a:cs typeface="B Yagut"/>
              </a:rPr>
              <a:t>سرشار بود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2731"/>
            </a:gs>
            <a:gs pos="100000">
              <a:srgbClr val="44546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92"/>
          <p:cNvSpPr/>
          <p:nvPr/>
        </p:nvSpPr>
        <p:spPr>
          <a:xfrm>
            <a:off x="304920" y="457200"/>
            <a:ext cx="8686800" cy="77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7e6e6"/>
                </a:solidFill>
                <a:latin typeface="Times New Roman"/>
                <a:cs typeface="B Titr"/>
              </a:rPr>
              <a:t>رويارويي سازمانها با شرايط تازه</a:t>
            </a:r>
            <a:r>
              <a:rPr b="1" lang="en-US" sz="4000" spc="-1" strike="noStrike">
                <a:solidFill>
                  <a:srgbClr val="e7e6e6"/>
                </a:solidFill>
                <a:latin typeface="Times New Roman"/>
                <a:ea typeface="B Titr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7e6e6"/>
                </a:solidFill>
                <a:latin typeface="Times New Roman"/>
                <a:ea typeface="B Yagut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B Yagut"/>
              </a:rPr>
              <a:t>سازمانها هر روز در معرض تحول و دگرگوني و لاجرم سازگاري با وضع حاكم خواهند بود . آنها براي مقابله ناچارند از وضع موجود به وضع مطلوب گذر كنند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B Yagut"/>
              </a:rPr>
              <a:t> 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Times New Roman"/>
                <a:cs typeface="B Yagut"/>
              </a:rPr>
              <a:t>اين گذر در مواضع زير اجنتاب ناپذير است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B Yagut"/>
              </a:rPr>
              <a:t> 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B Yagut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2057400" y="5562720"/>
            <a:ext cx="38098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79"/>
          <p:cNvSpPr/>
          <p:nvPr/>
        </p:nvSpPr>
        <p:spPr>
          <a:xfrm flipH="1">
            <a:off x="5562720" y="34290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82"/>
          <p:cNvSpPr/>
          <p:nvPr/>
        </p:nvSpPr>
        <p:spPr>
          <a:xfrm flipH="1">
            <a:off x="5562720" y="11430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1"/>
          <p:cNvSpPr/>
          <p:nvPr/>
        </p:nvSpPr>
        <p:spPr>
          <a:xfrm flipH="1">
            <a:off x="5562720" y="16002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5"/>
          <p:cNvSpPr/>
          <p:nvPr/>
        </p:nvSpPr>
        <p:spPr>
          <a:xfrm>
            <a:off x="3086280" y="8620200"/>
            <a:ext cx="888840" cy="12600"/>
          </a:xfrm>
          <a:custGeom>
            <a:avLst/>
            <a:gdLst>
              <a:gd name="textAreaLeft" fmla="*/ 0 w 888840"/>
              <a:gd name="textAreaRight" fmla="*/ 889200 w 8888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401" h="20">
                <a:moveTo>
                  <a:pt x="1401" y="20"/>
                </a:moveTo>
                <a:lnTo>
                  <a:pt x="0" y="0"/>
                </a:ln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85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r>
              <a:rPr b="1" lang="ar-SA" sz="4400" spc="-1" strike="noStrike">
                <a:solidFill>
                  <a:srgbClr val="ff3300"/>
                </a:solidFill>
                <a:latin typeface="Times New Roman"/>
                <a:cs typeface="B Yagut"/>
              </a:rPr>
              <a:t>گذر از :                         بــه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87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مديريت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       رهبـــري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89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تأكيد برمشكلات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       جستجوي فرصته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90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كمال طلبي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                   شناسايي انتظارات مشتريان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91"/>
          <p:cNvSpPr/>
          <p:nvPr/>
        </p:nvSpPr>
        <p:spPr>
          <a:xfrm>
            <a:off x="0" y="2209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B Yagut"/>
              </a:rPr>
              <a:t>رقابت فرسايند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       همكاري محرك ومشترك باديگران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93"/>
          <p:cNvSpPr/>
          <p:nvPr/>
        </p:nvSpPr>
        <p:spPr>
          <a:xfrm>
            <a:off x="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حل مسأل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       توسعه توان پيشگيري از ظهور مساله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95"/>
          <p:cNvSpPr/>
          <p:nvPr/>
        </p:nvSpPr>
        <p:spPr>
          <a:xfrm>
            <a:off x="0" y="312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كنترل كردن كاركنان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       ظهور در نقش مربي براي آنها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100"/>
          <p:cNvSpPr/>
          <p:nvPr/>
        </p:nvSpPr>
        <p:spPr>
          <a:xfrm>
            <a:off x="0" y="8780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cs typeface="B Yagut"/>
              </a:rPr>
              <a:t>مطيع نمودن كاركنان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cs typeface="B Yagut"/>
              </a:rPr>
              <a:t>متعهد نمودن كاركنان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101"/>
          <p:cNvSpPr/>
          <p:nvPr/>
        </p:nvSpPr>
        <p:spPr>
          <a:xfrm flipH="1">
            <a:off x="5562720" y="29718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102"/>
          <p:cNvSpPr/>
          <p:nvPr/>
        </p:nvSpPr>
        <p:spPr>
          <a:xfrm flipH="1">
            <a:off x="5562720" y="25146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104"/>
          <p:cNvSpPr/>
          <p:nvPr/>
        </p:nvSpPr>
        <p:spPr>
          <a:xfrm flipH="1">
            <a:off x="5562720" y="20574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109"/>
          <p:cNvSpPr/>
          <p:nvPr/>
        </p:nvSpPr>
        <p:spPr>
          <a:xfrm flipH="1">
            <a:off x="5562720" y="43434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107"/>
          <p:cNvSpPr/>
          <p:nvPr/>
        </p:nvSpPr>
        <p:spPr>
          <a:xfrm flipH="1">
            <a:off x="5562720" y="487692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108"/>
          <p:cNvSpPr/>
          <p:nvPr/>
        </p:nvSpPr>
        <p:spPr>
          <a:xfrm flipH="1">
            <a:off x="5562720" y="38862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110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111"/>
          <p:cNvSpPr/>
          <p:nvPr/>
        </p:nvSpPr>
        <p:spPr>
          <a:xfrm>
            <a:off x="0" y="3581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ساختارهاي سازماني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شرايط مساعد براي انجام عمل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112"/>
          <p:cNvSpPr/>
          <p:nvPr/>
        </p:nvSpPr>
        <p:spPr>
          <a:xfrm>
            <a:off x="0" y="4038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تفكر يك بعدي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تفكر چند بعدي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113"/>
          <p:cNvSpPr/>
          <p:nvPr/>
        </p:nvSpPr>
        <p:spPr>
          <a:xfrm>
            <a:off x="0" y="4495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بازدارندگي رقب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هدايت كنندگ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114"/>
          <p:cNvSpPr/>
          <p:nvPr/>
        </p:nvSpPr>
        <p:spPr>
          <a:xfrm flipH="1" flipV="1">
            <a:off x="5562720" y="5334120"/>
            <a:ext cx="876240" cy="79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Freeform 115"/>
          <p:cNvSpPr/>
          <p:nvPr/>
        </p:nvSpPr>
        <p:spPr>
          <a:xfrm>
            <a:off x="5562720" y="5867280"/>
            <a:ext cx="888840" cy="12960"/>
          </a:xfrm>
          <a:custGeom>
            <a:avLst/>
            <a:gdLst>
              <a:gd name="textAreaLeft" fmla="*/ 0 w 888840"/>
              <a:gd name="textAreaRight" fmla="*/ 889200 w 8888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401" h="20">
                <a:moveTo>
                  <a:pt x="1401" y="20"/>
                </a:moveTo>
                <a:lnTo>
                  <a:pt x="0" y="0"/>
                </a:ln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116"/>
          <p:cNvSpPr/>
          <p:nvPr/>
        </p:nvSpPr>
        <p:spPr>
          <a:xfrm>
            <a:off x="0" y="28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117"/>
          <p:cNvSpPr/>
          <p:nvPr/>
        </p:nvSpPr>
        <p:spPr>
          <a:xfrm>
            <a:off x="0" y="502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پاداشهاي برون زا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(مالي)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پاداشهاي درون زا (انگيزش دورني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18"/>
          <p:cNvSpPr/>
          <p:nvPr/>
        </p:nvSpPr>
        <p:spPr>
          <a:xfrm>
            <a:off x="152280" y="56386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B Yagut"/>
              </a:rPr>
              <a:t>مطيع نمودن كاركنان 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                   متعهد نمودن كارك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119"/>
          <p:cNvSpPr/>
          <p:nvPr/>
        </p:nvSpPr>
        <p:spPr>
          <a:xfrm>
            <a:off x="650232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20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B Yagut"/>
              </a:rPr>
              <a:t>قبضه كردن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Yagut"/>
              </a:rPr>
              <a:t>اطلاعات وقدرت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                  تقسيم دانش و قدرت باديگر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122"/>
          <p:cNvSpPr/>
          <p:nvPr/>
        </p:nvSpPr>
        <p:spPr>
          <a:xfrm flipH="1">
            <a:off x="5562720" y="64008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4400" spc="-1" strike="noStrike">
                <a:solidFill>
                  <a:srgbClr val="0563c1"/>
                </a:solidFill>
                <a:latin typeface="Times New Roman"/>
                <a:cs typeface="B Yagut"/>
              </a:rPr>
              <a:t>گذر از :                         بــه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12"/>
          <p:cNvSpPr/>
          <p:nvPr/>
        </p:nvSpPr>
        <p:spPr>
          <a:xfrm flipH="1">
            <a:off x="4648320" y="198108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10"/>
          <p:cNvSpPr/>
          <p:nvPr/>
        </p:nvSpPr>
        <p:spPr>
          <a:xfrm flipH="1">
            <a:off x="4648320" y="106668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11"/>
          <p:cNvSpPr/>
          <p:nvPr/>
        </p:nvSpPr>
        <p:spPr>
          <a:xfrm flipH="1">
            <a:off x="4648320" y="152388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رعايت استاندارده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1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برآوردن خواسته هاي مشتري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رفتار مديريت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14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تأكيد بر دستيابي به نتايج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برانگيزاند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1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افزايش توان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Yagut"/>
              </a:rPr>
              <a:t>خودباوري وخودمسئوليتي همكار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Freeform 21"/>
          <p:cNvSpPr/>
          <p:nvPr/>
        </p:nvSpPr>
        <p:spPr>
          <a:xfrm>
            <a:off x="4648320" y="3429000"/>
            <a:ext cx="917280" cy="6480"/>
          </a:xfrm>
          <a:custGeom>
            <a:avLst/>
            <a:gdLst>
              <a:gd name="textAreaLeft" fmla="*/ 0 w 917280"/>
              <a:gd name="textAreaRight" fmla="*/ 917640 w 9172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446" h="9">
                <a:moveTo>
                  <a:pt x="1446" y="9"/>
                </a:moveTo>
                <a:lnTo>
                  <a:pt x="0" y="0"/>
                </a:ln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H="1">
            <a:off x="4648320" y="29718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H="1">
            <a:off x="4647960" y="4343400"/>
            <a:ext cx="6858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19"/>
          <p:cNvSpPr/>
          <p:nvPr/>
        </p:nvSpPr>
        <p:spPr>
          <a:xfrm flipH="1">
            <a:off x="4648320" y="38862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20"/>
          <p:cNvSpPr/>
          <p:nvPr/>
        </p:nvSpPr>
        <p:spPr>
          <a:xfrm flipH="1">
            <a:off x="4648320" y="243828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0" y="3657600"/>
            <a:ext cx="914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كنترل كيفيت آمار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19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بهينه سازي مستم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كنترل كاركن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16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تأكيد بر بازده كاري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0" y="2666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نمايش قدرت سازمان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17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متقاعدكردن ديگران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0" y="3200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تأكيد بر برنامه هاي سازمان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18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پاسخگويي به نيازهاي مشتري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152280" y="41148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هزينه كردن برا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B Yagut"/>
              </a:rPr>
              <a:t>حل مسائل فعلي سازم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سرمايه گذاري براي آيند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29"/>
          <p:cNvSpPr/>
          <p:nvPr/>
        </p:nvSpPr>
        <p:spPr>
          <a:xfrm flipH="1">
            <a:off x="4648320" y="66294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30"/>
          <p:cNvSpPr/>
          <p:nvPr/>
        </p:nvSpPr>
        <p:spPr>
          <a:xfrm flipH="1">
            <a:off x="4648320" y="48006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31"/>
          <p:cNvSpPr/>
          <p:nvPr/>
        </p:nvSpPr>
        <p:spPr>
          <a:xfrm flipH="1">
            <a:off x="4648320" y="52578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32"/>
          <p:cNvSpPr/>
          <p:nvPr/>
        </p:nvSpPr>
        <p:spPr>
          <a:xfrm>
            <a:off x="0" y="502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برنامه ريزي شغلي سازمان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2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برنامه ريزي شخصي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براي پيشرف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شغلي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33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0" y="457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برخورد دستوري با كاركنا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2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جلب مشاركت كاركنا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5"/>
          <p:cNvSpPr/>
          <p:nvPr/>
        </p:nvSpPr>
        <p:spPr>
          <a:xfrm flipH="1">
            <a:off x="4648320" y="57150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37"/>
          <p:cNvSpPr/>
          <p:nvPr/>
        </p:nvSpPr>
        <p:spPr>
          <a:xfrm>
            <a:off x="0" y="5486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خودموفقيت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2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موفقيت جمعي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38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ارتباطات سازنده ومبتني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بر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Yagut"/>
              </a:rPr>
              <a:t>هد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24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ارتباطات برانگيزاننده و روح گشا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40"/>
          <p:cNvSpPr/>
          <p:nvPr/>
        </p:nvSpPr>
        <p:spPr>
          <a:xfrm flipH="1">
            <a:off x="4648320" y="61722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0" y="6400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رهبري مشاركتي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2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رهبري فرد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4400" spc="-1" strike="noStrike">
                <a:solidFill>
                  <a:srgbClr val="0563c1"/>
                </a:solidFill>
                <a:latin typeface="Times New Roman"/>
                <a:cs typeface="B Yagut"/>
              </a:rPr>
              <a:t>گذر از :                         بــه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3"/>
          <p:cNvSpPr/>
          <p:nvPr/>
        </p:nvSpPr>
        <p:spPr>
          <a:xfrm flipH="1">
            <a:off x="4648320" y="198108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4648320" y="106668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 flipH="1">
            <a:off x="4648320" y="152388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رعايت استاندارده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1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برآوردن خواسته هاي مشتري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رفتار مديريت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14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تأكيد بر دستيابي به نتايج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برانگيزاند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1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افزايش توان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Yagut"/>
              </a:rPr>
              <a:t>خودباوري وخودمسئوليتي همكار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Freeform 10"/>
          <p:cNvSpPr/>
          <p:nvPr/>
        </p:nvSpPr>
        <p:spPr>
          <a:xfrm>
            <a:off x="4648320" y="3429000"/>
            <a:ext cx="917280" cy="6480"/>
          </a:xfrm>
          <a:custGeom>
            <a:avLst/>
            <a:gdLst>
              <a:gd name="textAreaLeft" fmla="*/ 0 w 917280"/>
              <a:gd name="textAreaRight" fmla="*/ 917640 w 9172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446" h="9">
                <a:moveTo>
                  <a:pt x="1446" y="9"/>
                </a:moveTo>
                <a:lnTo>
                  <a:pt x="0" y="0"/>
                </a:ln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648320" y="29718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2"/>
          <p:cNvSpPr/>
          <p:nvPr/>
        </p:nvSpPr>
        <p:spPr>
          <a:xfrm flipH="1">
            <a:off x="4647960" y="4343400"/>
            <a:ext cx="6858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3"/>
          <p:cNvSpPr/>
          <p:nvPr/>
        </p:nvSpPr>
        <p:spPr>
          <a:xfrm flipH="1">
            <a:off x="4648320" y="38862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4"/>
          <p:cNvSpPr/>
          <p:nvPr/>
        </p:nvSpPr>
        <p:spPr>
          <a:xfrm flipH="1">
            <a:off x="4648320" y="243828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0" y="3657600"/>
            <a:ext cx="914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كنترل كيفيت آمار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19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بهينه سازي مستم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كنترل كاركن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16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تأكيد بر بازده كاري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0" y="2666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نمايش قدرت سازمان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17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متقاعدكردن ديگران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0" y="3200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تأكيد بر برنامه هاي سازمان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18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پاسخگويي به نيازهاي مشتري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152280" y="41148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هزينه كردن برا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B Yagut"/>
              </a:rPr>
              <a:t>حل مسائل فعلي سازم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سرمايه گذاري براي آيند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20"/>
          <p:cNvSpPr/>
          <p:nvPr/>
        </p:nvSpPr>
        <p:spPr>
          <a:xfrm flipH="1">
            <a:off x="4648320" y="66294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21"/>
          <p:cNvSpPr/>
          <p:nvPr/>
        </p:nvSpPr>
        <p:spPr>
          <a:xfrm flipH="1">
            <a:off x="4648320" y="48006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22"/>
          <p:cNvSpPr/>
          <p:nvPr/>
        </p:nvSpPr>
        <p:spPr>
          <a:xfrm flipH="1">
            <a:off x="4648320" y="52578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0" y="502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برنامه ريزي شغلي سازمان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2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برنامه ريزي شخصي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براي پيشرف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شغلي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0" y="457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برخورد دستوري با كاركنا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2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جلب مشاركت كاركنا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6"/>
          <p:cNvSpPr/>
          <p:nvPr/>
        </p:nvSpPr>
        <p:spPr>
          <a:xfrm flipH="1">
            <a:off x="4648320" y="57150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0" y="5486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خودموفقيت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2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موفقيت جمعي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ارتباطات سازنده ومبتني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بر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Yagut"/>
              </a:rPr>
              <a:t>هد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24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ارتباطات برانگيزاننده و روح گشا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29"/>
          <p:cNvSpPr/>
          <p:nvPr/>
        </p:nvSpPr>
        <p:spPr>
          <a:xfrm flipH="1">
            <a:off x="4648320" y="6172200"/>
            <a:ext cx="9144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0"/>
          <p:cNvSpPr/>
          <p:nvPr/>
        </p:nvSpPr>
        <p:spPr>
          <a:xfrm>
            <a:off x="0" y="6400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رهبري مشاركتي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2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رهبري فرد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304920" y="0"/>
            <a:ext cx="8686800" cy="78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141120" indent="-14112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 Black"/>
                <a:cs typeface="B Yagut"/>
              </a:rPr>
              <a:t>فرهنگ چيست 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1120" indent="-14112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 Black"/>
                <a:ea typeface="B Yagut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1120" indent="-14112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 Black"/>
                <a:cs typeface="B Yagut"/>
              </a:rPr>
              <a:t>ـ </a:t>
            </a:r>
            <a:r>
              <a:rPr b="1" lang="ar-SA" sz="2400" spc="-1" strike="noStrike">
                <a:solidFill>
                  <a:srgbClr val="ffffff"/>
                </a:solidFill>
                <a:latin typeface="Arial Black"/>
                <a:cs typeface="B Yagut"/>
              </a:rPr>
              <a:t>كليه كوششهايي كه اعضاء يك جامعه براي انطباق خود با هنجارهاي محيط اعم از طبيعي يا اجتماعي مي كنند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B Yagut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B Yagut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 Black"/>
                <a:ea typeface="B Yagut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1120" indent="-14112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 Black"/>
                <a:ea typeface="B Yagut"/>
              </a:rPr>
              <a:t>                                                                                                                            </a:t>
            </a:r>
            <a:r>
              <a:rPr b="1" lang="ar-SA" sz="2000" spc="-1" strike="noStrike">
                <a:solidFill>
                  <a:srgbClr val="ff3300"/>
                </a:solidFill>
                <a:latin typeface="Arial Black"/>
                <a:cs typeface="B Yagut"/>
              </a:rPr>
              <a:t>ساموئل كني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1120" indent="-14112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 Black"/>
                <a:cs typeface="B Yagut"/>
              </a:rPr>
              <a:t>ـ </a:t>
            </a:r>
            <a:r>
              <a:rPr b="1" lang="ar-SA" sz="2000" spc="-1" strike="noStrike">
                <a:solidFill>
                  <a:srgbClr val="ff9900"/>
                </a:solidFill>
                <a:latin typeface="Arial Black"/>
                <a:cs typeface="B Yagut"/>
              </a:rPr>
              <a:t>الگويي از پيش فرضهاي اساسي كه گروهي ويژه در راه دستيابي به يكپارچگي و انسجام ، آفرينش و كشف پديده ها ايجاد كرده اند</a:t>
            </a:r>
            <a:r>
              <a:rPr b="1" lang="en-US" sz="2000" spc="-1" strike="noStrike">
                <a:solidFill>
                  <a:srgbClr val="ff9900"/>
                </a:solidFill>
                <a:latin typeface="Arial Black"/>
                <a:ea typeface="B Yagut"/>
              </a:rPr>
              <a:t>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1120" indent="-14112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 Black"/>
                <a:cs typeface="B Yagut"/>
              </a:rPr>
              <a:t>ـ </a:t>
            </a:r>
            <a:r>
              <a:rPr b="1" lang="ar-SA" sz="2000" spc="-1" strike="noStrike">
                <a:solidFill>
                  <a:srgbClr val="ffffff"/>
                </a:solidFill>
                <a:latin typeface="Arial Black"/>
                <a:cs typeface="B Yagut"/>
              </a:rPr>
              <a:t>تركيب همه چيزهايي كه مردم برايشان بالاترين ارزشها را قائلند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B Yagut"/>
              </a:rPr>
              <a:t>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1120" indent="-14112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 Black"/>
                <a:cs typeface="B Yagut"/>
              </a:rPr>
              <a:t>ـ </a:t>
            </a:r>
            <a:r>
              <a:rPr b="1" lang="ar-SA" sz="2000" spc="-1" strike="noStrike">
                <a:solidFill>
                  <a:srgbClr val="ff9900"/>
                </a:solidFill>
                <a:latin typeface="Arial Black"/>
                <a:cs typeface="B Yagut"/>
              </a:rPr>
              <a:t>مجموعه اي از دانسته ها و آموخته ها ، اعم از مكتسبات علمي و اوهام و خرافات و سنتها و قواعد و رسوم و مانند آنها</a:t>
            </a:r>
            <a:r>
              <a:rPr b="1" lang="en-US" sz="2000" spc="-1" strike="noStrike">
                <a:solidFill>
                  <a:srgbClr val="ff9900"/>
                </a:solidFill>
                <a:latin typeface="Arial Black"/>
                <a:ea typeface="B Yagut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1120" indent="-14112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 Black"/>
                <a:cs typeface="B Yagut"/>
              </a:rPr>
              <a:t>ـ </a:t>
            </a:r>
            <a:r>
              <a:rPr b="1" lang="ar-SA" sz="2000" spc="-1" strike="noStrike">
                <a:solidFill>
                  <a:srgbClr val="ffffff"/>
                </a:solidFill>
                <a:latin typeface="Arial Black"/>
                <a:cs typeface="B Yagut"/>
              </a:rPr>
              <a:t>در اصطلاح علماء جامعه شناسي و مردم شناسي ؛ به محيط خودساخته بشر اطلاق مي شود كه از مجموعه علم و دانش و معتقدات مذهبي ، سنن ديرينه ، عادات و رسـوم ، هنر و قانون معمول در يك جامعه تشكيل شده و حاكم بر اعمال و رفتار افراد آن جامعه مي باشد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B Yagut"/>
              </a:rPr>
              <a:t>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1120" indent="-14112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 Black"/>
                <a:ea typeface="B Yagut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1120" indent="-14112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 Black"/>
                <a:ea typeface="B Yagut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1120" indent="-14112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 Black"/>
                <a:cs typeface="B Yagut"/>
              </a:rPr>
              <a:t>در نهايت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B Yagut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  <a:ea typeface="B Yagut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B Yagu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1120" indent="-14112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Black"/>
                <a:ea typeface="B Yagut"/>
              </a:rPr>
              <a:t>	</a:t>
            </a:r>
            <a:r>
              <a:rPr b="1" lang="ar-SA" sz="2400" spc="-1" strike="noStrike">
                <a:solidFill>
                  <a:srgbClr val="ff9900"/>
                </a:solidFill>
                <a:latin typeface="Arial Black"/>
                <a:cs typeface="B Yagut"/>
              </a:rPr>
              <a:t>مجموعه اي از رفتارهاي آموختني ، باورها ، عادات و سنن كه مشترك ميان گروههي از افراد است و به گونه اي متوالي توسط ديگران كه به آن جامعه وارد مي شوند آموخته و به كار گرفته مي شوند.</a:t>
            </a:r>
            <a:r>
              <a:rPr b="1" lang="ar-SA" sz="2000" spc="-1" strike="noStrike">
                <a:solidFill>
                  <a:srgbClr val="000000"/>
                </a:solidFill>
                <a:latin typeface="Arial Black"/>
                <a:ea typeface="B Yagu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af8c"/>
            </a:gs>
            <a:gs pos="100000">
              <a:srgbClr val="13514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0" y="228600"/>
            <a:ext cx="914400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imes New Roman"/>
                <a:cs typeface="B Titr"/>
              </a:rPr>
              <a:t>فرهنگ سازماني چيست ؟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B Titr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imes New Roman"/>
                <a:ea typeface="B Titr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B Yagut"/>
              </a:rPr>
              <a:t>ـ ارزشهاي مشترك اعضاء و اجزاء يك سازمان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B Yagut"/>
              </a:rPr>
              <a:t>ـ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فلسفه اي كه خط مشي سازمان را در جهت كاركنان ومشتريان هدايت مي كن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B Yagut"/>
              </a:rPr>
              <a:t>ـ الگويي از عقايد ، باورها و انتظارات مشترك در يك سازمان كه به ايجاد هنجارهايي منجر مي گردد كه به طور قدرتمندي به رفتار اشخاص و گروهها در درون سازمان شكل مي ده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B Yagut"/>
              </a:rPr>
              <a:t>Robbin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B Yagut"/>
              </a:rPr>
              <a:t>                                                                                                                                                       </a:t>
            </a:r>
            <a:r>
              <a:rPr b="0" lang="fa-IR" sz="2400" spc="-1" strike="noStrike">
                <a:solidFill>
                  <a:srgbClr val="ff3300"/>
                </a:solidFill>
                <a:latin typeface="Times New Roman"/>
                <a:ea typeface="B Yagut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3287880"/>
            <a:ext cx="9144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B Yagut"/>
              </a:rPr>
              <a:t>ـ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شيوه اي خاص يا فضايي كه سازماني را از سازمانهاي ديگر متمايز م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سازد و در واقع، به آن سازمان شخصيت منحصر به فردي م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ده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د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406404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B Yagut"/>
              </a:rPr>
              <a:t>ـ هويت اجتماعي هر سازمان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0" y="4840200"/>
            <a:ext cx="9144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B Yagut"/>
              </a:rPr>
              <a:t>ـ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agut"/>
              </a:rPr>
              <a:t>تركيبي از باورها ، ارزشها و پيش فرضهايي است كه در سازمان وجوددارد و همه اعضاء سازمان ، كم و بيش ، به طور يكسان در معرض آن قرار مي گيرن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Yagut"/>
              </a:rPr>
              <a:t>.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0" y="561672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B Yagut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imes New Roman"/>
                <a:cs typeface="B Sina"/>
              </a:rPr>
              <a:t>ادگار شاين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0" y="-264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Yagut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228600"/>
            <a:ext cx="9144000" cy="86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0" anchor="t">
            <a:spAutoFit/>
          </a:bodyPr>
          <a:p>
            <a:pPr algn="ctr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B Titr"/>
              </a:rPr>
              <a:t>علمكــرد فرهن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B Titr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00"/>
                </a:solidFill>
                <a:latin typeface="Times New Roman"/>
                <a:ea typeface="B Yagut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.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    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Yagut"/>
              </a:rPr>
              <a:t>محيط فرهنگي جامعه عميق ترين ، پردامنه ترين و بلندمدت ترين تأثيرات را بر رفتار اجتماعي اكثريت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Yagut"/>
              </a:rPr>
              <a:t>اعضاء يك جامعه مي گذارد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2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.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     </a:t>
            </a:r>
            <a:r>
              <a:rPr b="1" lang="ar-SA" sz="1800" spc="-1" strike="noStrike">
                <a:solidFill>
                  <a:srgbClr val="ffff99"/>
                </a:solidFill>
                <a:latin typeface="Times New Roman"/>
                <a:cs typeface="B Yagut"/>
              </a:rPr>
              <a:t>فرهنگ ارزشهاي جامعه را به طرز كم و بيش نظام مند تعبير و تفسير مي كند و از گذر فرهنگ است كه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  <a:ea typeface="B Yagut"/>
              </a:rPr>
              <a:t>        </a:t>
            </a:r>
            <a:r>
              <a:rPr b="1" lang="ar-SA" sz="1800" spc="-1" strike="noStrike">
                <a:solidFill>
                  <a:srgbClr val="ffff99"/>
                </a:solidFill>
                <a:latin typeface="Times New Roman"/>
                <a:cs typeface="B Yagut"/>
              </a:rPr>
              <a:t>مي توان معني هدف و نوع رفتار فردي و اجتماعي را درك نمود .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3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.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    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Yagut"/>
              </a:rPr>
              <a:t>فرهنگ يكي از استوارترين پايه هاي همبستگي اجتماعي را فراهم مي كند. به عبارت ديگر ، فرهنگ الهام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 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Yagut"/>
              </a:rPr>
              <a:t>بخش تعهد ، وفاداري و فداكاري در راستاي ارزشها و اهداف يك جامعه است 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4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.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    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 </a:t>
            </a:r>
            <a:r>
              <a:rPr b="1" lang="ar-SA" sz="1800" spc="-1" strike="noStrike">
                <a:solidFill>
                  <a:srgbClr val="ffff99"/>
                </a:solidFill>
                <a:latin typeface="Times New Roman"/>
                <a:cs typeface="B Yagut"/>
              </a:rPr>
              <a:t>فرهنگ رفتار اجتماعي را چنان نظام مي دهد كه فرد با جامعه به مشاركت مي پردازد ، بدون آنكه ناگزير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  <a:ea typeface="B Yagut"/>
              </a:rPr>
              <a:t>      </a:t>
            </a:r>
            <a:r>
              <a:rPr b="1" lang="ar-SA" sz="1800" spc="-1" strike="noStrike">
                <a:solidFill>
                  <a:srgbClr val="ffff99"/>
                </a:solidFill>
                <a:latin typeface="Times New Roman"/>
                <a:cs typeface="B Yagut"/>
              </a:rPr>
              <a:t>باشد مرتبا“ شيوه هاي فكر و عمل كردن را ابداع  يا اختراع كند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5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.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    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Yagut"/>
              </a:rPr>
              <a:t>فرهنگ در طرز زندگي و اعمال و رفتار ما تأثير خاصي دارد ، ولي اكثرا“ اتفاق مي افتد كه ضمير آگاه ما از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Yagut"/>
              </a:rPr>
              <a:t>تأثير و نفوذ عوامل فرهنگي واقف باشد و اكثرا“ آن را بلا اراده و ناخود آگاه مي پذيرد 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6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.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     </a:t>
            </a:r>
            <a:r>
              <a:rPr b="1" lang="ar-SA" sz="1800" spc="-1" strike="noStrike">
                <a:solidFill>
                  <a:srgbClr val="ffff99"/>
                </a:solidFill>
                <a:latin typeface="Times New Roman"/>
                <a:cs typeface="B Yagut"/>
              </a:rPr>
              <a:t>فرهنگ ((خالص و پاك)) هم</a:t>
            </a:r>
            <a:r>
              <a:rPr b="1" lang="fa-IR" sz="1800" spc="-1" strike="noStrike">
                <a:solidFill>
                  <a:srgbClr val="ffff99"/>
                </a:solidFill>
                <a:latin typeface="Times New Roman"/>
                <a:cs typeface="B Yagut"/>
              </a:rPr>
              <a:t>چ</a:t>
            </a:r>
            <a:r>
              <a:rPr b="1" lang="ar-SA" sz="1800" spc="-1" strike="noStrike">
                <a:solidFill>
                  <a:srgbClr val="ffff99"/>
                </a:solidFill>
                <a:latin typeface="Times New Roman"/>
                <a:cs typeface="B Yagut"/>
              </a:rPr>
              <a:t>ون نژاد (( خالص و پاك )) ‌وجود خارجي ندارد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7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.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    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Yagut"/>
              </a:rPr>
              <a:t>فرهنگ نيزچون هرموجودي زيستي دارد. رشد ونمومي كند. شعاعش يعني اعضاء آن كم و زياد مي شود 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Yagut"/>
              </a:rPr>
              <a:t>بخشهايي از ديگر فرهنگ ها را مي پذيرد وقسمتهايي به ديگران مي بخشد و تطور و تكامل مي يابد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8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B Yagut"/>
              </a:rPr>
              <a:t>.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     </a:t>
            </a:r>
            <a:r>
              <a:rPr b="1" lang="ar-SA" sz="1800" spc="-1" strike="noStrike">
                <a:solidFill>
                  <a:srgbClr val="ffff99"/>
                </a:solidFill>
                <a:latin typeface="Times New Roman"/>
                <a:cs typeface="B Yagut"/>
              </a:rPr>
              <a:t>فرهنگ نه كار يك (( قهرمان فرهنگ )) است ونه آفريده چند نابغه ، مخترع مقنن و متفكر بزرگ . فرهنگ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  <a:ea typeface="B Yagut"/>
              </a:rPr>
              <a:t>        </a:t>
            </a:r>
            <a:r>
              <a:rPr b="1" lang="ar-SA" sz="1800" spc="-1" strike="noStrike">
                <a:solidFill>
                  <a:srgbClr val="ffff99"/>
                </a:solidFill>
                <a:latin typeface="Times New Roman"/>
                <a:cs typeface="B Yagut"/>
              </a:rPr>
              <a:t>ثمره و ميوه و نتايج همكاري انسانهاست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Times New Roman"/>
                <a:ea typeface="B Yagut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B Yagut"/>
              </a:rPr>
              <a:t>    </a:t>
            </a:r>
            <a:r>
              <a:rPr b="1" lang="ar-SA" sz="2200" spc="-1" strike="noStrike">
                <a:solidFill>
                  <a:srgbClr val="66ff33"/>
                </a:solidFill>
                <a:latin typeface="Times New Roman"/>
                <a:cs typeface="B Yagut"/>
              </a:rPr>
              <a:t>فرهنگ وتمدن را با بلندي قله هاي آن اندازه نمي</a:t>
            </a:r>
            <a:r>
              <a:rPr b="1" lang="en-US" sz="2200" spc="-1" strike="noStrike">
                <a:solidFill>
                  <a:srgbClr val="66ff33"/>
                </a:solidFill>
                <a:latin typeface="Times New Roman"/>
                <a:ea typeface="B Yagut"/>
              </a:rPr>
              <a:t> </a:t>
            </a:r>
            <a:r>
              <a:rPr b="1" lang="ar-SA" sz="2200" spc="-1" strike="noStrike">
                <a:solidFill>
                  <a:srgbClr val="66ff33"/>
                </a:solidFill>
                <a:latin typeface="Times New Roman"/>
                <a:cs typeface="B Yagut"/>
              </a:rPr>
              <a:t>گيرند و مورد قضاوت قــرار نمي دهند، بلكه بلندي متوسط آن مورد توجه است . فرهنگ ساخته مردان يك جامعه نيست ، بلكه به پايين ترين سطح عناصر انساني سازنده او وابسته است</a:t>
            </a:r>
            <a:r>
              <a:rPr b="1" lang="en-US" sz="2200" spc="-1" strike="noStrike">
                <a:solidFill>
                  <a:srgbClr val="66ff33"/>
                </a:solidFill>
                <a:latin typeface="Times New Roman"/>
                <a:ea typeface="B Yagut"/>
              </a:rPr>
              <a:t>.</a:t>
            </a:r>
            <a:r>
              <a:rPr b="1" lang="ar-SA" sz="2200" spc="-1" strike="noStrike">
                <a:solidFill>
                  <a:srgbClr val="66ff33"/>
                </a:solidFill>
                <a:latin typeface="Times New Roman"/>
                <a:ea typeface="B Yagu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0" y="6019920"/>
            <a:ext cx="9144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00"/>
                </a:solidFill>
                <a:latin typeface="Times New Roman"/>
                <a:cs typeface="B Sina"/>
              </a:rPr>
              <a:t>اندره زيگفري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08:22:52Z</dcterms:created>
  <dc:creator>M.R.Imani.M</dc:creator>
  <dc:description/>
  <dc:language>en-US</dc:language>
  <cp:lastModifiedBy>sadati</cp:lastModifiedBy>
  <dcterms:modified xsi:type="dcterms:W3CDTF">2018-04-09T05:36:54Z</dcterms:modified>
  <cp:revision>77</cp:revision>
  <dc:subject/>
  <dc:title>PowerPoint Presentation</dc:title>
</cp:coreProperties>
</file>